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C23-793E-44DD-B582-ABC311D9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1BEE-4D22-4587-B848-B95423C0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8EE-B1F7-4367-B82F-96DA8A9E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09E-EED6-4DA6-B21F-C5A0ADDA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B45-4ABD-4492-BB41-F2255C04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4758-33E0-4F80-B45C-31E4E106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16F-97F1-487C-9B0F-4B921E1A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170-45E9-4676-AE05-4FC5158F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687-812C-4F99-A57B-F390201D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A54-AAD0-4D1D-8A71-92188E6B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198-A2B8-4864-9685-EACEFEB1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408-EFCB-4129-81DC-1CBD9E9E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8C5F-E7A1-463A-8112-E6BDE70B8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erties of Quadratic Fun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062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45720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/phrase/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2819520"/>
            <a:ext cx="2286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43800" y="2819520"/>
            <a:ext cx="1371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3733920"/>
            <a:ext cx="6858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3733920"/>
            <a:ext cx="17524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4114800"/>
            <a:ext cx="6858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5880" y="4114800"/>
            <a:ext cx="18288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2895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1000" y="2895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5956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4480" y="35956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9765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4052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2500200"/>
            <a:ext cx="8686800" cy="18576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76320" y="45720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/phrase/form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3200400"/>
            <a:ext cx="22860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3276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7-12-29T13:32:58Z</dcterms:modified>
  <cp:revision>6</cp:revision>
  <dc:subject/>
  <dc:title>Slide 1</dc:title>
</cp:coreProperties>
</file>